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4.wmf" ContentType="image/x-wmf"/>
  <Override PartName="/ppt/media/image6.jpeg" ContentType="image/jpeg"/>
  <Override PartName="/ppt/media/image7.wmf" ContentType="image/x-wmf"/>
  <Override PartName="/ppt/media/image13.wmf" ContentType="image/x-wmf"/>
  <Override PartName="/ppt/media/image12.jpeg" ContentType="image/jpeg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36B-B80F-48D2-9890-A4BB6FB7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6F7-8513-4E1D-80EB-0292F637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43A-910B-4539-B731-3671B073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435-25C7-4AE1-BC80-4FEB7227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CAA-9453-4013-B175-5E8C1981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183-EC7E-4A3A-91F2-1F52ECD0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F7A-9C68-4DB4-BCC1-0CCAB225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669-257C-4228-8F2F-5474A956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208-573B-427F-A4B8-41F0D3FC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1C5-AB0E-40D9-AC3A-D86BC04A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ABD-0C38-4C83-98B0-A0DC17DF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5FE-C3D7-46EA-95D6-6C9EA0D2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4F0A-A91B-4029-93C2-77E86CCC3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8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n.wikipedia.org/" TargetMode="External"/><Relationship Id="rId3" Type="http://schemas.openxmlformats.org/officeDocument/2006/relationships/hyperlink" Target="http://www.answers.yahoo.com/" TargetMode="External"/><Relationship Id="rId4" Type="http://schemas.openxmlformats.org/officeDocument/2006/relationships/hyperlink" Target="http://www.orthopedies.about.com/" TargetMode="External"/><Relationship Id="rId5" Type="http://schemas.openxmlformats.org/officeDocument/2006/relationships/hyperlink" Target="http://www.libuiowa.edu/" TargetMode="External"/><Relationship Id="rId6" Type="http://schemas.openxmlformats.org/officeDocument/2006/relationships/hyperlink" Target="http://www.stpeters.com/" TargetMode="External"/><Relationship Id="rId7" Type="http://schemas.openxmlformats.org/officeDocument/2006/relationships/hyperlink" Target="http://www.webschoolsolutions.com/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The Skelet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shlyn V. Jenny H. Michael C. Tiana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eam Name: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Date: February 11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075600">
            <a:off x="380520" y="2057400"/>
            <a:ext cx="2673360" cy="449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515400">
            <a:off x="4038480" y="3048120"/>
            <a:ext cx="4114800" cy="361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rotection: protects the brain and internal org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upport: maintains upright pos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roduces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torage: stores fat and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llows 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5 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baby has about 300 bones when it is first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r skeleton is divided into 2 parts, your axial skeleton and your appendicular skele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r spine is made up of 26 bones, thes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ones are called vertebr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r foot has a total of 26 b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th out your bones, you wouldn’t be able to walk or stand you, would be a blob on the 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50000">
              <a:srgbClr val="ff99cc"/>
            </a:gs>
            <a:gs pos="100000">
              <a:srgbClr val="d6009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hritis- joint pain, irritation of the j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- you can get arthritis based on your age, weight, or any previous injury’s you might have h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- depending on the type, physical and occupational therapy may be needed, also if severe enough joint replacement will be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teoporosis- bones become more brittle due to BMD re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- bisphosphonates – drugs that removes bone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- not enough calcium and phosp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zen shoulder- restricted motion in your shou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- often occurs for no reason, occasionally traumatic inju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- physical therapy, and pain reli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859800">
            <a:off x="6324480" y="4361040"/>
            <a:ext cx="1792440" cy="2496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ying healt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ealthy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a healthy diet are: milk, cheese, yogurt,  other dairy products, and vege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good exercise are: walk, jog, and jump rope are all examples of good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999000">
            <a:off x="6857640" y="304920"/>
            <a:ext cx="1647720" cy="1616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80880" y="594504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 rot="20702400">
            <a:off x="452520" y="196560"/>
            <a:ext cx="116676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websi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.wikipedia.org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answers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orthopedies.abou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libuiowa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stpeter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webschoolsolution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ww.kidshealth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ww.mnsn.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ww.umich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ww.Mrscameronswiki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ww.ehow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ww.dictionary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50000">
              <a:srgbClr val="ff0066"/>
            </a:gs>
            <a:gs pos="100000">
              <a:srgbClr val="cc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e End!!!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e hope you enjoyed our project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hlyn       Jenny     Michael      T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934320" y="3048120"/>
            <a:ext cx="1258920" cy="184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1736640" cy="185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2895480"/>
            <a:ext cx="1349280" cy="2463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2014560" cy="2282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4:10:08Z</dcterms:created>
  <dc:creator>jenniferhobson</dc:creator>
  <dc:description/>
  <dc:language>en-US</dc:language>
  <cp:lastModifiedBy>jcameron</cp:lastModifiedBy>
  <dcterms:modified xsi:type="dcterms:W3CDTF">2008-02-27T14:04:16Z</dcterms:modified>
  <cp:revision>21</cp:revision>
  <dc:subject/>
  <dc:title>The Skeletal System</dc:title>
</cp:coreProperties>
</file>